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7CB-7DD1-483E-BBA2-6BDFBF2D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828-02FA-430C-8905-72B0D54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90B-1ACB-4A8E-8BEC-D17BF72C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070-D4D5-4764-9375-90E4F8AC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F3C3-F06A-4D28-983A-6F528C8F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1A04-1ECE-4F09-89BA-343E93BE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03EA-4D9E-4F16-BDA1-EFF0E0E5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1F87-BAEE-4E7F-A2D4-17F7399B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AAA1-E9F8-44F1-AF31-86E66610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E315-5356-44C1-AEBF-07E19102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6C68-C9E9-4602-A5D4-0ACD080B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69F-2EF4-44A5-A29F-71EFE767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86AD-42EC-4690-8A07-7B261831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35BE-8C62-4E01-8B12-3E4D8E1C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2602-B7E9-4BCE-9C27-6C2ED203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A651-1837-4716-8B14-FD997C19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DB23-6886-444A-84DE-166DEECC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BE2-85E1-4196-B2AE-1E84C5B9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F8D-B252-454F-BF8A-DDF0196A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877-2358-485C-B742-0492F80C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35F-4B9A-4361-894A-53CA7F0D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385-2B4F-4F04-96CE-117DBC1B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AA0-8909-4DC9-AE3F-0A2BDB9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5D2-11C6-44CA-B3FD-78847E6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47CD-ECE5-4FBD-B6B6-03DF448A96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F1BB-64C5-44AC-9E99-B32A2A7C00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24000" y="1831680"/>
            <a:ext cx="88200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723b5"/>
                </a:solidFill>
                <a:latin typeface="Comic Sans MS"/>
              </a:rPr>
              <a:t>Насколько велико Царство натуральных чисел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70600" cy="915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omic Sans MS"/>
              </a:rPr>
              <a:t>СОВЕРШЕН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туральное число, равное сумме всех своих собственных делителей (т. е. всех положительных делителей, отличных от самого числ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2050920" y="3645000"/>
            <a:ext cx="936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183840" y="4005360"/>
            <a:ext cx="25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= 1 + 2 +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1979640" y="5084640"/>
            <a:ext cx="144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728160" y="5276880"/>
            <a:ext cx="46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= 1 + 2 + 4 + 7 + 14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апрель 2010 года известно </a:t>
            </a: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ётных совершенных чисе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230560" y="1413000"/>
            <a:ext cx="691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Нечётных совершенных чисел до сих пор не обнаружено, однако не доказано и то, что их не существует. Неизвестно также, бесконечно ли множество всех совершенных чисе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вопрос"/>
          <p:cNvPicPr/>
          <p:nvPr/>
        </p:nvPicPr>
        <p:blipFill>
          <a:blip r:embed="rId1"/>
          <a:stretch/>
        </p:blipFill>
        <p:spPr>
          <a:xfrm>
            <a:off x="250920" y="1557360"/>
            <a:ext cx="1860480" cy="2089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8"/>
          <p:cNvSpPr/>
          <p:nvPr/>
        </p:nvSpPr>
        <p:spPr>
          <a:xfrm>
            <a:off x="1619280" y="3789360"/>
            <a:ext cx="66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Первые 7 совершенных чисел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851280" y="4508640"/>
            <a:ext cx="3527280" cy="1556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33 550 33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8 58986905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137 438 691 32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06200" y="4340160"/>
            <a:ext cx="1113480" cy="2043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28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49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812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367680" cy="844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Comic Sans MS"/>
              </a:rPr>
              <a:t>Числа-близне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696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это пара простых чисел, отличающихся на 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4" descr="близнецы"/>
          <p:cNvPicPr/>
          <p:nvPr/>
        </p:nvPicPr>
        <p:blipFill>
          <a:blip r:embed="rId1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1187280" y="2492280"/>
            <a:ext cx="6121440" cy="2104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5 – 3 = 2      7 – 5 =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13 – 11 = 2   19 – 17 =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2"/>
          <a:stretch/>
        </p:blipFill>
        <p:spPr>
          <a:xfrm>
            <a:off x="1908000" y="4076640"/>
            <a:ext cx="2294280" cy="2305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"/>
          <p:cNvPicPr/>
          <p:nvPr/>
        </p:nvPicPr>
        <p:blipFill>
          <a:blip r:embed="rId3"/>
          <a:stretch/>
        </p:blipFill>
        <p:spPr>
          <a:xfrm>
            <a:off x="4859280" y="4149720"/>
            <a:ext cx="2293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69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ервые простые числа-близнец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3,  5),    (5,  7),    (11, 13),   (17, 19),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29, 31),   (41, 43),   (59, 61), (71,  73),  (101, 103), (107, 109), (137, 139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149, 151), (179, 181), (191, 193),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197, 199), (227, 229), (239, 241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269, 271), (281, 283), (311, 313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347, 349), (419, 421), (431, 433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461, 463), (521, 523), (569, 571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599, 601), (617, 619), (641, 643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659, 661), (809, 811), (821, 823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827, 829), (857, 859), (881, 883)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7380360" y="1844640"/>
            <a:ext cx="1014480" cy="1451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7451640" y="3500280"/>
            <a:ext cx="101448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Самые большие известные простые близнец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Comic Sans MS"/>
              </a:rPr>
              <a:t>65516468355*2 333333 ±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100355 цифр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Comic Sans MS"/>
              </a:rPr>
              <a:t>2003663613*2 195000 ± 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58711 цифр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Comic Sans MS"/>
              </a:rPr>
              <a:t>194772106074315*2 171960 ± 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51780 цифр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Comic Sans MS"/>
              </a:rPr>
              <a:t>100314512544015*2 171960 ± 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51780 цифр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Comic Sans MS"/>
              </a:rPr>
              <a:t>16869987339975*2 171960 ± 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51779 цифр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Comic Sans MS"/>
              </a:rPr>
              <a:t>ФИГУРНЫЕ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96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щее название чисел, связанных с той или иной геометрической фигурой. Это историческое понятие восходит к пифагорейц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личают следующие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иды фигурных чисе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Линейные числ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— числа, не разлагающиеся на сомножители, то есть их ряд совпадает с рядом простых чисел, дополненным единицей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Comic Sans MS"/>
              </a:rPr>
              <a:t>1, 2, 3, 5, 7, 11, 13, 17, 19, 23, …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Плоские числ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— числа, представимые в виде произведения двух сомножителей, то есть составные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Comic Sans MS"/>
              </a:rPr>
              <a:t>4, 6, 8, 9, 10, 12, 14, 15, 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Телесные числ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— числа, представимые произведением трёх сомножителей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Comic Sans MS"/>
              </a:rPr>
              <a:t>8, 12, 16, 18, 20, 24, 27, 28, 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для счета"/>
          <p:cNvPicPr/>
          <p:nvPr/>
        </p:nvPicPr>
        <p:blipFill>
          <a:blip r:embed="rId1"/>
          <a:stretch/>
        </p:blipFill>
        <p:spPr>
          <a:xfrm>
            <a:off x="395280" y="333360"/>
            <a:ext cx="1835280" cy="2376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2416320" y="620640"/>
            <a:ext cx="54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Comic Sans MS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3200" spc="-1" strike="noStrike">
                <a:solidFill>
                  <a:srgbClr val="3333ff"/>
                </a:solidFill>
                <a:latin typeface="Comic Sans MS"/>
              </a:rPr>
              <a:t>ТРЕУГОЛЬНОЕ ЧИС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7" descr="фиг ч"/>
          <p:cNvPicPr/>
          <p:nvPr/>
        </p:nvPicPr>
        <p:blipFill>
          <a:blip r:embed="rId2"/>
          <a:stretch/>
        </p:blipFill>
        <p:spPr>
          <a:xfrm rot="346800">
            <a:off x="4788000" y="1773360"/>
            <a:ext cx="3578040" cy="2582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СМАЙЛ"/>
          <p:cNvPicPr/>
          <p:nvPr/>
        </p:nvPicPr>
        <p:blipFill>
          <a:blip r:embed="rId3"/>
          <a:stretch/>
        </p:blipFill>
        <p:spPr>
          <a:xfrm>
            <a:off x="250920" y="494172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СМАЙЛ"/>
          <p:cNvPicPr/>
          <p:nvPr/>
        </p:nvPicPr>
        <p:blipFill>
          <a:blip r:embed="rId4"/>
          <a:stretch/>
        </p:blipFill>
        <p:spPr>
          <a:xfrm>
            <a:off x="900000" y="494028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СМАЙЛ"/>
          <p:cNvPicPr/>
          <p:nvPr/>
        </p:nvPicPr>
        <p:blipFill>
          <a:blip r:embed="rId5"/>
          <a:stretch/>
        </p:blipFill>
        <p:spPr>
          <a:xfrm>
            <a:off x="1619280" y="494172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СМАЙЛ"/>
          <p:cNvPicPr/>
          <p:nvPr/>
        </p:nvPicPr>
        <p:blipFill>
          <a:blip r:embed="rId6"/>
          <a:stretch/>
        </p:blipFill>
        <p:spPr>
          <a:xfrm>
            <a:off x="2411280" y="494172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СМАЙЛ"/>
          <p:cNvPicPr/>
          <p:nvPr/>
        </p:nvPicPr>
        <p:blipFill>
          <a:blip r:embed="rId7"/>
          <a:stretch/>
        </p:blipFill>
        <p:spPr>
          <a:xfrm>
            <a:off x="250920" y="4365720"/>
            <a:ext cx="720720" cy="541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СМАЙЛ"/>
          <p:cNvPicPr/>
          <p:nvPr/>
        </p:nvPicPr>
        <p:blipFill>
          <a:blip r:embed="rId8"/>
          <a:stretch/>
        </p:blipFill>
        <p:spPr>
          <a:xfrm>
            <a:off x="1619280" y="378936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СМАЙЛ"/>
          <p:cNvPicPr/>
          <p:nvPr/>
        </p:nvPicPr>
        <p:blipFill>
          <a:blip r:embed="rId9"/>
          <a:stretch/>
        </p:blipFill>
        <p:spPr>
          <a:xfrm>
            <a:off x="900000" y="494028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СМАЙЛ"/>
          <p:cNvPicPr/>
          <p:nvPr/>
        </p:nvPicPr>
        <p:blipFill>
          <a:blip r:embed="rId10"/>
          <a:stretch/>
        </p:blipFill>
        <p:spPr>
          <a:xfrm>
            <a:off x="2411280" y="378936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СМАЙЛ"/>
          <p:cNvPicPr/>
          <p:nvPr/>
        </p:nvPicPr>
        <p:blipFill>
          <a:blip r:embed="rId11"/>
          <a:stretch/>
        </p:blipFill>
        <p:spPr>
          <a:xfrm>
            <a:off x="900000" y="4365720"/>
            <a:ext cx="720720" cy="541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СМАЙЛ"/>
          <p:cNvPicPr/>
          <p:nvPr/>
        </p:nvPicPr>
        <p:blipFill>
          <a:blip r:embed="rId12"/>
          <a:stretch/>
        </p:blipFill>
        <p:spPr>
          <a:xfrm>
            <a:off x="1619280" y="4365720"/>
            <a:ext cx="720720" cy="54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СМАЙЛ"/>
          <p:cNvPicPr/>
          <p:nvPr/>
        </p:nvPicPr>
        <p:blipFill>
          <a:blip r:embed="rId13"/>
          <a:stretch/>
        </p:blipFill>
        <p:spPr>
          <a:xfrm>
            <a:off x="2411280" y="4365720"/>
            <a:ext cx="720720" cy="54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9" descr="СМАЙЛ"/>
          <p:cNvPicPr/>
          <p:nvPr/>
        </p:nvPicPr>
        <p:blipFill>
          <a:blip r:embed="rId14"/>
          <a:stretch/>
        </p:blipFill>
        <p:spPr>
          <a:xfrm>
            <a:off x="900000" y="378936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СМАЙЛ"/>
          <p:cNvPicPr/>
          <p:nvPr/>
        </p:nvPicPr>
        <p:blipFill>
          <a:blip r:embed="rId15"/>
          <a:stretch/>
        </p:blipFill>
        <p:spPr>
          <a:xfrm>
            <a:off x="250920" y="378936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СМАЙЛ"/>
          <p:cNvPicPr/>
          <p:nvPr/>
        </p:nvPicPr>
        <p:blipFill>
          <a:blip r:embed="rId16"/>
          <a:stretch/>
        </p:blipFill>
        <p:spPr>
          <a:xfrm>
            <a:off x="250920" y="321300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СМАЙЛ"/>
          <p:cNvPicPr/>
          <p:nvPr/>
        </p:nvPicPr>
        <p:blipFill>
          <a:blip r:embed="rId17"/>
          <a:stretch/>
        </p:blipFill>
        <p:spPr>
          <a:xfrm>
            <a:off x="900000" y="321300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3" descr="СМАЙЛ"/>
          <p:cNvPicPr/>
          <p:nvPr/>
        </p:nvPicPr>
        <p:blipFill>
          <a:blip r:embed="rId18"/>
          <a:stretch/>
        </p:blipFill>
        <p:spPr>
          <a:xfrm>
            <a:off x="1692360" y="321300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СМАЙЛ"/>
          <p:cNvPicPr/>
          <p:nvPr/>
        </p:nvPicPr>
        <p:blipFill>
          <a:blip r:embed="rId19"/>
          <a:stretch/>
        </p:blipFill>
        <p:spPr>
          <a:xfrm>
            <a:off x="2411280" y="3213000"/>
            <a:ext cx="720720" cy="541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5"/>
          <p:cNvSpPr/>
          <p:nvPr/>
        </p:nvSpPr>
        <p:spPr>
          <a:xfrm>
            <a:off x="3300840" y="4653000"/>
            <a:ext cx="54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16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КВАДРАТНОЕ ЧИС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ОБРАЩЕНН0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6960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это число, записанное теми же числами, но расположенными в обратном поряд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684360" y="3284640"/>
            <a:ext cx="259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80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706560" y="3573360"/>
            <a:ext cx="88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0099"/>
                </a:solidFill>
                <a:latin typeface="Comic Sans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WordArt 7"/>
          <p:cNvSpPr txBox="1"/>
          <p:nvPr/>
        </p:nvSpPr>
        <p:spPr>
          <a:xfrm>
            <a:off x="5219640" y="3357720"/>
            <a:ext cx="237672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Impact"/>
              </a:rPr>
              <a:t>508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ff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748720" cy="7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ПАЛИНДРОМИЧЕСК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696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Comic Sans MS"/>
              </a:rPr>
              <a:t>- это число,  которое равно своему обращенному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611280" y="2708280"/>
            <a:ext cx="259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669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572000" y="2565360"/>
            <a:ext cx="251784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5" name="WordArt 6"/>
          <p:cNvSpPr txBox="1"/>
          <p:nvPr/>
        </p:nvSpPr>
        <p:spPr>
          <a:xfrm>
            <a:off x="2700360" y="4581360"/>
            <a:ext cx="33606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858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7696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9900ff"/>
                </a:solidFill>
                <a:latin typeface="Comic Sans MS"/>
              </a:rPr>
              <a:t>Палиндромические числа не просто красивы, у них есть еще ряд замечательных свойст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, возьмем любое число и запишем его в обратном порядке. Если мы начнем эти два числа складывать, в сумме рано или поздно получим палиндромическое числ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07600" y="2709720"/>
            <a:ext cx="324108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ru-RU" sz="2400" spc="-1" strike="noStrike">
                <a:solidFill>
                  <a:srgbClr val="990099"/>
                </a:solidFill>
                <a:latin typeface="Comic Sans MS"/>
              </a:rPr>
              <a:t>3724 + 4273 =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7997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599360" y="2708280"/>
            <a:ext cx="308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865 + 658 = 143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1433 + 3341 =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47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2265120" y="3657960"/>
            <a:ext cx="5490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 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9238 + 8329 = 1756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17567 + 76571 = 94138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94138 + 83149 = 177287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177287 + 782771 = 96005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960058 + 850069 = 18101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1810127 + 7210181 = 9020308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9020308 + 8030209 = 17050517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17050517 + 71505071 =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88555588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6870600" cy="13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ГДЕ В СВОЕЙ ЖИЗНИ ВЫ ВСТРЕЧАЕТЕСЬ С ЧИСЛА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7640" y="1413000"/>
            <a:ext cx="62629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ДАТА 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РОСТ, ВЕ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НОМЕР ДОМА И КВАРТИ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НОМЕР ТЕЛЕФО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НОМЕР АВТОБУ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КОЛИЧЕСТВО НАСЕ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НОМЕР ПАРАГРАФ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КОЛИЧЕСТВО СТРАНИЦ В КНИГ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5219640" y="1341360"/>
            <a:ext cx="1887480" cy="15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d2a1b"/>
                    </a:gs>
                    <a:gs pos="100000">
                      <a:srgbClr val="52f046"/>
                    </a:gs>
                  </a:gsLst>
                  <a:lin ang="5400000"/>
                </a:gradFill>
                <a:latin typeface="Impact"/>
              </a:rPr>
              <a:t>20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d2a1b"/>
                  </a:gs>
                  <a:gs pos="100000">
                    <a:srgbClr val="52f046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2124000" y="566100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0123456789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6"/>
          <p:cNvSpPr txBox="1"/>
          <p:nvPr/>
        </p:nvSpPr>
        <p:spPr>
          <a:xfrm rot="5400000">
            <a:off x="324360" y="548280"/>
            <a:ext cx="10796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7"/>
          <p:cNvSpPr txBox="1"/>
          <p:nvPr/>
        </p:nvSpPr>
        <p:spPr>
          <a:xfrm rot="5400000">
            <a:off x="827280" y="2348640"/>
            <a:ext cx="115272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8"/>
          <p:cNvSpPr txBox="1"/>
          <p:nvPr/>
        </p:nvSpPr>
        <p:spPr>
          <a:xfrm rot="5400000">
            <a:off x="324000" y="3933720"/>
            <a:ext cx="100800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9"/>
          <p:cNvSpPr txBox="1"/>
          <p:nvPr/>
        </p:nvSpPr>
        <p:spPr>
          <a:xfrm rot="5400000">
            <a:off x="7451280" y="2060640"/>
            <a:ext cx="1081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0"/>
          <p:cNvSpPr txBox="1"/>
          <p:nvPr/>
        </p:nvSpPr>
        <p:spPr>
          <a:xfrm rot="5400000">
            <a:off x="7093080" y="4221000"/>
            <a:ext cx="12240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Comic Sans MS"/>
              </a:rPr>
              <a:t>Вывод: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42960" y="2214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Comic Sans MS"/>
              </a:rPr>
              <a:t>Множество натуральных чисел бесконечно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Comic Sans MS"/>
              </a:rPr>
              <a:t>Натуральные числа делятся на группы по особым признака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Comic Sans MS"/>
              </a:rPr>
              <a:t>Натуральные числа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(естественные числа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— числа, возникающие естественным образом при счёте (как в смысле перечисления, так и в смысле исчислени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два подход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 определению натуральных чисел — числа, используемые пр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перечислении (нумеровании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редметов (первый, второй, третий…) — подход, общепринятый в большинстве стран мира (в том числе и в России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обозначении количества предмето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нет предметов, один предмет, два предмета…).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ТО ОБОЗНАЧАЕТ ЧИСЛО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ЧИСЛО ОБОЗНАЧА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ЛИЧЕСТ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НОМ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i"/>
          <p:cNvPicPr/>
          <p:nvPr/>
        </p:nvPicPr>
        <p:blipFill>
          <a:blip r:embed="rId1"/>
          <a:stretch/>
        </p:blipFill>
        <p:spPr>
          <a:xfrm rot="597000">
            <a:off x="4932000" y="2276640"/>
            <a:ext cx="3384720" cy="252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13"/>
          <p:cNvPicPr/>
          <p:nvPr/>
        </p:nvPicPr>
        <p:blipFill>
          <a:blip r:embed="rId2"/>
          <a:stretch/>
        </p:blipFill>
        <p:spPr>
          <a:xfrm>
            <a:off x="2050920" y="4581360"/>
            <a:ext cx="27352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7345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Натуральные числа  возникли в глубокой древности как результат счета различных предметов: людей, животных, птиц, деревьев, орудий труда и т.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50920" y="4508640"/>
            <a:ext cx="78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Отрицательные и нецелые числа натуральными числами не являютс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419640" y="2492280"/>
            <a:ext cx="57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Множество всех натуральных чисел принято обозначать знаком 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280" y="292428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два различных натураль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исла, каждое из которых равно сумме                                                  делителей другого числа (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читая самого числа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580000" y="5229360"/>
            <a:ext cx="2895840" cy="1214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дружба"/>
          <p:cNvPicPr/>
          <p:nvPr/>
        </p:nvPicPr>
        <p:blipFill>
          <a:blip r:embed="rId2"/>
          <a:stretch/>
        </p:blipFill>
        <p:spPr>
          <a:xfrm rot="20589600">
            <a:off x="390600" y="231840"/>
            <a:ext cx="1584360" cy="1904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6292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Comic Sans MS"/>
              </a:rPr>
              <a:t>ДРУЖЕСТВЕННЫЕ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468360" y="404640"/>
            <a:ext cx="7920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ифагор говорил: «Мой друг тот, кто является моим вторым я, как числа 220 и 284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и числа замечательны тем, что сумма младших делителей каждого из них равна второму числ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йствитель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1+2+4+5+10+11+20+22+44+55+11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284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а 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1+2+4+71+14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2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116000" y="4508640"/>
            <a:ext cx="417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20   И   284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252160" y="5805360"/>
            <a:ext cx="61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ff9933"/>
                </a:solidFill>
                <a:latin typeface="Comic Sans MS"/>
              </a:rPr>
              <a:t>ПЕРВАЯ ПАРА ДРУЖЕСТВЕННЫХ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7696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 сентябрь 2007 года известно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11994387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ар дружественных чисел. Все они состоят из двух чётных или двух нечётных чисел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2030400" cy="8222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87640" y="3141720"/>
            <a:ext cx="590544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Есть ли чётно-нечётная пара дружественных чисел, неизвестно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Также неизвестно, существуют ли взаимно простые дружественные чис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696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22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28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Пифагор, около 500 до н. э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18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21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Паганини, 186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262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292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502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556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23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368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5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074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0856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228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459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Браун, 1939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7296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8416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Ибн ал-Банна, около 1300, Фариси, около 1300, Ферма, Пьер, 1636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302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7608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6928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699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5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709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7114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961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87633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7975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8873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Рольф (Rolf), 1964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00485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 12415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22265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 13981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22368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 12315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др"/>
          <p:cNvPicPr/>
          <p:nvPr/>
        </p:nvPicPr>
        <p:blipFill>
          <a:blip r:embed="rId1"/>
          <a:stretch/>
        </p:blipFill>
        <p:spPr>
          <a:xfrm rot="290400">
            <a:off x="5508360" y="2852640"/>
            <a:ext cx="2658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9:16:19Z</dcterms:created>
  <dc:creator>Admin</dc:creator>
  <dc:description/>
  <dc:language>en-US</dc:language>
  <cp:lastModifiedBy>26536</cp:lastModifiedBy>
  <dcterms:modified xsi:type="dcterms:W3CDTF">2010-05-17T10:56:20Z</dcterms:modified>
  <cp:revision>18</cp:revision>
  <dc:subject/>
  <dc:title>Слайд 1</dc:title>
</cp:coreProperties>
</file>